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B93-B5F2-4C96-BB08-D879586D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3B4-8FC7-4281-B1F9-C202CCA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919-4163-48C3-BD44-5ABB8C1A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091-5963-4EF9-A3B8-FCC0D7AE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FC38B-52CF-40B2-A5D3-DB0A048B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7B413-43FB-41B3-B7AF-F90A6B1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F1F80-4A00-4D5F-943C-AD567C2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7EE6C-FFA8-4FCA-8CE8-47EC83A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9765B-EED5-4CF0-80BA-5B8AF0F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615E-6783-48F1-8C21-C9E9E142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F918-4FFF-450F-B25E-E5B2534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89E-1CE8-4C33-85F2-75899A57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2D97D-B076-42F9-8591-34EBF92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09CD-789F-4542-B844-7A5C8222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FAC05-9DAB-4774-9ACA-012066B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3D4BA-50EE-404D-A64E-8BA20010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79E8-2AF4-4BA4-8900-FC2CE721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CFC-3138-42FB-B734-904E2AFB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0E2-FA45-418C-8A24-C84FE1A9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41C-3B40-4D6C-B381-C830DE23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828-9B21-45DF-BA89-74BBC289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656-E721-441D-8CA6-069E4A9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CD9-2EC7-460D-89F1-EFFCFE1B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B54-5DF2-48FD-8023-AEFF9B92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29D3-080D-4240-BC10-31B31053F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A365-FB39-46A0-BEDD-B2BECB9BB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093080" y="404640"/>
            <a:ext cx="1608120" cy="3350880"/>
            <a:chOff x="7093080" y="404640"/>
            <a:chExt cx="1608120" cy="3350880"/>
          </a:xfrm>
        </p:grpSpPr>
        <p:sp>
          <p:nvSpPr>
            <p:cNvPr id="84" name=""/>
            <p:cNvSpPr/>
            <p:nvPr/>
          </p:nvSpPr>
          <p:spPr>
            <a:xfrm>
              <a:off x="7273800" y="526680"/>
              <a:ext cx="1295640" cy="289548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2895480"/>
                <a:gd name="textAreaBottom" fmla="*/ 2832480 h 2895480"/>
              </a:gdLst>
              <a:ahLst/>
              <a:rect l="textAreaLeft" t="textAreaTop" r="textAreaRight" b="textAreaBottom"/>
              <a:pathLst>
                <a:path w="21600" h="48264">
                  <a:moveTo>
                    <a:pt x="3600" y="0"/>
                  </a:moveTo>
                  <a:arcTo wR="3600" hR="3600" stAng="16200000" swAng="-5400000"/>
                  <a:lnTo>
                    <a:pt x="0" y="44664"/>
                  </a:lnTo>
                  <a:arcTo wR="3600" hR="3600" stAng="10800000" swAng="-5400000"/>
                  <a:lnTo>
                    <a:pt x="18000" y="482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093080" y="404640"/>
              <a:ext cx="1608120" cy="33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 txBox="1"/>
          <p:nvPr/>
        </p:nvSpPr>
        <p:spPr>
          <a:xfrm>
            <a:off x="1692360" y="1484280"/>
            <a:ext cx="4968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10199">
                      <a:alpha val="50000"/>
                    </a:srgbClr>
                  </a:outerShdw>
                </a:effectLst>
                <a:latin typeface="Arial Black"/>
              </a:rPr>
              <a:t>Sine Wa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0101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19280" y="3860640"/>
            <a:ext cx="4991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10199">
                      <a:alpha val="50000"/>
                    </a:srgbClr>
                  </a:outerShdw>
                </a:effectLst>
                <a:latin typeface="Arial Black"/>
              </a:rPr>
              <a:t>on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0101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10199">
                      <a:alpha val="50000"/>
                    </a:srgbClr>
                  </a:outerShdw>
                </a:effectLst>
                <a:latin typeface="Arial Black"/>
              </a:rPr>
              <a:t>Graphing Calcul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0101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tting 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1268280"/>
            <a:ext cx="5267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any equations or lists from your calculator to star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the Y=  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STAT 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n Stat Plot O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91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 flipH="1">
            <a:off x="971640" y="242100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4920" y="2924280"/>
            <a:ext cx="2160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971640" y="2349000"/>
            <a:ext cx="3024000" cy="10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3141720"/>
            <a:ext cx="7272360" cy="2533680"/>
            <a:chOff x="1332000" y="3141720"/>
            <a:chExt cx="7272360" cy="2533680"/>
          </a:xfrm>
        </p:grpSpPr>
        <p:sp>
          <p:nvSpPr>
            <p:cNvPr id="97" name=""/>
            <p:cNvSpPr/>
            <p:nvPr/>
          </p:nvSpPr>
          <p:spPr>
            <a:xfrm>
              <a:off x="3780000" y="4149720"/>
              <a:ext cx="482436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In the Mode Menu, turn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ahoma"/>
                </a:rPr>
                <a:t>DEGREES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on!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ahoma"/>
                </a:rPr>
                <a:t>(instead of RADIANS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332000" y="3141720"/>
              <a:ext cx="2519280" cy="1511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385920"/>
            <a:ext cx="2305080" cy="170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ter the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81200" y="1267920"/>
            <a:ext cx="5267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ton to enter the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03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971640" y="2565360"/>
            <a:ext cx="7632720" cy="1584360"/>
            <a:chOff x="971640" y="2565360"/>
            <a:chExt cx="7632720" cy="1584360"/>
          </a:xfrm>
        </p:grpSpPr>
        <p:sp>
          <p:nvSpPr>
            <p:cNvPr id="106" name=""/>
            <p:cNvSpPr/>
            <p:nvPr/>
          </p:nvSpPr>
          <p:spPr>
            <a:xfrm>
              <a:off x="3419640" y="2565360"/>
              <a:ext cx="5184720" cy="158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Remember to use the </a:t>
              </a:r>
              <a:r>
                <a:rPr b="0" lang="en-US" sz="2800" spc="-1" strike="noStrike">
                  <a:solidFill>
                    <a:srgbClr val="ffffff"/>
                  </a:solidFill>
                  <a:latin typeface="TI83Key"/>
                  <a:ea typeface="TI83Key"/>
                </a:rPr>
                <a:t>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button for your independent variab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1640" y="3141720"/>
              <a:ext cx="504720" cy="43164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476000" y="2852640"/>
              <a:ext cx="2087640" cy="432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1440" y="404640"/>
            <a:ext cx="2301840" cy="163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971280" y="1557360"/>
            <a:ext cx="266364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tting The Wind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13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505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read the question carefully to determine reasonable restrictions on the independent and dependent variabl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the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tton and adjust the Xmin, Xmax, Ymin and Ymax according to the above restri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2276640"/>
            <a:ext cx="2879280" cy="1439280"/>
            <a:chOff x="971640" y="2276640"/>
            <a:chExt cx="2879280" cy="1439280"/>
          </a:xfrm>
        </p:grpSpPr>
        <p:sp>
          <p:nvSpPr>
            <p:cNvPr id="117" name=""/>
            <p:cNvSpPr/>
            <p:nvPr/>
          </p:nvSpPr>
          <p:spPr>
            <a:xfrm>
              <a:off x="971640" y="2276640"/>
              <a:ext cx="504720" cy="36036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476000" y="2565000"/>
              <a:ext cx="2374920" cy="11509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11280" y="349200"/>
            <a:ext cx="2376360" cy="172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PRESS GRAPH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22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2484360" y="2276640"/>
            <a:ext cx="50508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987640" y="2421000"/>
            <a:ext cx="43200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4581360"/>
            <a:ext cx="5040000" cy="1800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graph doesn’t show, then you may need to rethink your window setting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49360" y="351000"/>
            <a:ext cx="2379600" cy="1768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29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338800" cy="1768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ing Ques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om the 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504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a y-value, given an     x-val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the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t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in the x-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the y-value from the bottom of your grap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79640" y="2276640"/>
            <a:ext cx="1871280" cy="575640"/>
            <a:chOff x="1979640" y="2276640"/>
            <a:chExt cx="1871280" cy="575640"/>
          </a:xfrm>
        </p:grpSpPr>
        <p:sp>
          <p:nvSpPr>
            <p:cNvPr id="134" name=""/>
            <p:cNvSpPr/>
            <p:nvPr/>
          </p:nvSpPr>
          <p:spPr>
            <a:xfrm>
              <a:off x="1979640" y="2276640"/>
              <a:ext cx="504720" cy="36036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484000" y="2491920"/>
              <a:ext cx="1366920" cy="3603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71640" y="3357720"/>
            <a:ext cx="2808000" cy="2735280"/>
            <a:chOff x="971640" y="3357720"/>
            <a:chExt cx="2808000" cy="2735280"/>
          </a:xfrm>
        </p:grpSpPr>
        <p:sp>
          <p:nvSpPr>
            <p:cNvPr id="137" name=""/>
            <p:cNvSpPr/>
            <p:nvPr/>
          </p:nvSpPr>
          <p:spPr>
            <a:xfrm flipH="1">
              <a:off x="2484000" y="3357720"/>
              <a:ext cx="1295640" cy="12952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4508640"/>
              <a:ext cx="1512720" cy="1584360"/>
            </a:xfrm>
            <a:custGeom>
              <a:avLst/>
              <a:gdLst>
                <a:gd name="textAreaLeft" fmla="*/ 73800 w 1512720"/>
                <a:gd name="textAreaRight" fmla="*/ 1438920 w 1512720"/>
                <a:gd name="textAreaTop" fmla="*/ 73800 h 1584360"/>
                <a:gd name="textAreaBottom" fmla="*/ 1510560 h 1584360"/>
              </a:gdLst>
              <a:ahLst/>
              <a:rect l="textAreaLeft" t="textAreaTop" r="textAreaRight" b="textAreaBottom"/>
              <a:pathLst>
                <a:path w="21600" h="22623">
                  <a:moveTo>
                    <a:pt x="3600" y="0"/>
                  </a:moveTo>
                  <a:arcTo wR="3600" hR="3600" stAng="16200000" swAng="-5400000"/>
                  <a:lnTo>
                    <a:pt x="0" y="19023"/>
                  </a:lnTo>
                  <a:arcTo wR="3600" hR="3600" stAng="10800000" swAng="-5400000"/>
                  <a:lnTo>
                    <a:pt x="18000" y="22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84360" y="3860640"/>
            <a:ext cx="1295640" cy="2232360"/>
            <a:chOff x="2484360" y="3860640"/>
            <a:chExt cx="1295640" cy="2232360"/>
          </a:xfrm>
        </p:grpSpPr>
        <p:sp>
          <p:nvSpPr>
            <p:cNvPr id="140" name=""/>
            <p:cNvSpPr/>
            <p:nvPr/>
          </p:nvSpPr>
          <p:spPr>
            <a:xfrm>
              <a:off x="2484360" y="5661000"/>
              <a:ext cx="501840" cy="43200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43280" y="3860640"/>
              <a:ext cx="936720" cy="1873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4960" y="366840"/>
            <a:ext cx="2379600" cy="1768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17680" y="369720"/>
            <a:ext cx="2379600" cy="1740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6400" y="366840"/>
            <a:ext cx="2362320" cy="1736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19120" y="349200"/>
            <a:ext cx="2422440" cy="175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 flipV="1">
            <a:off x="2130480" y="2095560"/>
            <a:ext cx="1720800" cy="2341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48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338800" cy="1768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ing Ques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om the 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504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1916280"/>
            <a:ext cx="504036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an x-value, given y-value  METHOD 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less accurat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row keys to scroll until your y-value is close to what you are look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08000" y="2637000"/>
            <a:ext cx="2087280" cy="1008000"/>
            <a:chOff x="1908000" y="2637000"/>
            <a:chExt cx="2087280" cy="1008000"/>
          </a:xfrm>
        </p:grpSpPr>
        <p:sp>
          <p:nvSpPr>
            <p:cNvPr id="154" name=""/>
            <p:cNvSpPr/>
            <p:nvPr/>
          </p:nvSpPr>
          <p:spPr>
            <a:xfrm flipH="1" flipV="1">
              <a:off x="3058920" y="3213000"/>
              <a:ext cx="936360" cy="432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8000" y="2637000"/>
              <a:ext cx="1151280" cy="93636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79640" y="2276640"/>
            <a:ext cx="2016000" cy="791640"/>
            <a:chOff x="1979640" y="2276640"/>
            <a:chExt cx="2016000" cy="791640"/>
          </a:xfrm>
        </p:grpSpPr>
        <p:sp>
          <p:nvSpPr>
            <p:cNvPr id="157" name=""/>
            <p:cNvSpPr/>
            <p:nvPr/>
          </p:nvSpPr>
          <p:spPr>
            <a:xfrm flipH="1" flipV="1">
              <a:off x="2484360" y="2491920"/>
              <a:ext cx="1511280" cy="5763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9640" y="2276640"/>
              <a:ext cx="504720" cy="36036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49360" y="382680"/>
            <a:ext cx="2408040" cy="170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61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338800" cy="148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ing Ques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om the 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504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1413000"/>
            <a:ext cx="5473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find an x-value, given a y-valu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2 (accurat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 the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Y2 enter the y-value g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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get into the Calc me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se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follow the prompts given to find the intersection between your new line and your original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 for all intersection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49360" y="414360"/>
            <a:ext cx="2376360" cy="1646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33520" y="365040"/>
            <a:ext cx="2408040" cy="169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19120" y="365040"/>
            <a:ext cx="2408400" cy="171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33520" y="380880"/>
            <a:ext cx="2369880" cy="1722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533520" y="366840"/>
            <a:ext cx="2400120" cy="172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519120" y="334800"/>
            <a:ext cx="2392200" cy="174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487440" y="336600"/>
            <a:ext cx="2469960" cy="17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501480" y="334800"/>
            <a:ext cx="2438640" cy="174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471600" y="336600"/>
            <a:ext cx="2469960" cy="174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6840" y="1812960"/>
            <a:ext cx="1277640" cy="35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0480" y="-395280"/>
            <a:ext cx="54086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at’s it for now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162240" y="766800"/>
            <a:ext cx="2954160" cy="6217920"/>
            <a:chOff x="3162240" y="766800"/>
            <a:chExt cx="2954160" cy="6217920"/>
          </a:xfrm>
        </p:grpSpPr>
        <p:grpSp>
          <p:nvGrpSpPr>
            <p:cNvPr id="178" name=""/>
            <p:cNvGrpSpPr/>
            <p:nvPr/>
          </p:nvGrpSpPr>
          <p:grpSpPr>
            <a:xfrm>
              <a:off x="3162240" y="766800"/>
              <a:ext cx="2954160" cy="6217920"/>
              <a:chOff x="3162240" y="766800"/>
              <a:chExt cx="2954160" cy="62179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94160" y="993240"/>
                <a:ext cx="2379960" cy="5372640"/>
              </a:xfrm>
              <a:custGeom>
                <a:avLst/>
                <a:gdLst>
                  <a:gd name="textAreaLeft" fmla="*/ 115920 w 2379960"/>
                  <a:gd name="textAreaRight" fmla="*/ 2264040 w 2379960"/>
                  <a:gd name="textAreaTop" fmla="*/ 115920 h 5372640"/>
                  <a:gd name="textAreaBottom" fmla="*/ 5256720 h 5372640"/>
                </a:gdLst>
                <a:ahLst/>
                <a:rect l="textAreaLeft" t="textAreaTop" r="textAreaRight" b="textAreaBottom"/>
                <a:pathLst>
                  <a:path w="21600" h="48757">
                    <a:moveTo>
                      <a:pt x="3600" y="0"/>
                    </a:moveTo>
                    <a:arcTo wR="3600" hR="3600" stAng="16200000" swAng="-5400000"/>
                    <a:lnTo>
                      <a:pt x="0" y="45157"/>
                    </a:lnTo>
                    <a:arcTo wR="3600" hR="3600" stAng="10800000" swAng="-5400000"/>
                    <a:lnTo>
                      <a:pt x="18000" y="487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2240" y="766800"/>
                <a:ext cx="2954160" cy="621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635280" y="1099080"/>
              <a:ext cx="2148840" cy="15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1:39:32Z</dcterms:created>
  <dc:creator>Computer Science</dc:creator>
  <dc:description/>
  <dc:language>en-US</dc:language>
  <cp:lastModifiedBy>Computer Science</cp:lastModifiedBy>
  <dcterms:modified xsi:type="dcterms:W3CDTF">2006-07-17T15:02:27Z</dcterms:modified>
  <cp:revision>9</cp:revision>
  <dc:subject/>
  <dc:title>Slide 1</dc:title>
</cp:coreProperties>
</file>