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A99-D8D1-43AD-9401-D2435BCE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FBC-B138-4F68-B8FE-44360106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4CC-A4C2-41A2-A477-BF68F260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21B-65D2-43FF-8B94-32B107F1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6C3D6-2072-4FB9-9F37-5756B88D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943CF-F88D-4F05-82E3-DAE00A99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965BC-CCC0-4612-ABBD-8682B2B1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A7152-FEC0-45CA-92D1-688FE062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ADB8E-296E-4661-A082-7315867C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C0DF7-F7D2-4BEE-A190-48ECAFE5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3A66C-5D0A-4CE0-85CA-D724CCA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5D3-6580-4B9E-9108-BE36877A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93472-0D8E-4B1C-86EC-E6966F74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AC3A7-C937-4F39-B4D2-B365072F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3622A-2793-4672-AF9D-F717284A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A6241-B753-4566-8799-2361806E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D35C6-C9E5-40E9-A8EA-CEDF3A68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ADF-A7DB-4B62-84CF-F980B4A1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86D-1DD9-42D1-9485-B9BA313B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5D1-05EE-4232-824D-90079C24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9FD-915F-46E4-A568-22AEEBAF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C9CF-6663-4820-ADA1-EDA14BBF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D7D-F79A-4AA0-BF61-9DD1AF8D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CF1-DDD9-4B98-98E4-F6122396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8191-F949-48EF-BFEA-1A9832E9F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34B9-182F-4C57-991E-D624E18F0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7093080" y="404640"/>
            <a:ext cx="1608120" cy="3350880"/>
            <a:chOff x="7093080" y="404640"/>
            <a:chExt cx="1608120" cy="3350880"/>
          </a:xfrm>
        </p:grpSpPr>
        <p:sp>
          <p:nvSpPr>
            <p:cNvPr id="84" name=""/>
            <p:cNvSpPr/>
            <p:nvPr/>
          </p:nvSpPr>
          <p:spPr>
            <a:xfrm>
              <a:off x="7273800" y="526680"/>
              <a:ext cx="1295640" cy="289548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2895480"/>
                <a:gd name="textAreaBottom" fmla="*/ 2832480 h 2895480"/>
              </a:gdLst>
              <a:ahLst/>
              <a:rect l="textAreaLeft" t="textAreaTop" r="textAreaRight" b="textAreaBottom"/>
              <a:pathLst>
                <a:path w="21600" h="48264">
                  <a:moveTo>
                    <a:pt x="3600" y="0"/>
                  </a:moveTo>
                  <a:arcTo wR="3600" hR="3600" stAng="16200000" swAng="-5400000"/>
                  <a:lnTo>
                    <a:pt x="0" y="44664"/>
                  </a:lnTo>
                  <a:arcTo wR="3600" hR="3600" stAng="10800000" swAng="-5400000"/>
                  <a:lnTo>
                    <a:pt x="18000" y="482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7093080" y="404640"/>
              <a:ext cx="1608120" cy="33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 txBox="1"/>
          <p:nvPr/>
        </p:nvSpPr>
        <p:spPr>
          <a:xfrm>
            <a:off x="1692360" y="941400"/>
            <a:ext cx="4968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010199">
                      <a:alpha val="50000"/>
                    </a:srgbClr>
                  </a:outerShdw>
                </a:effectLst>
                <a:latin typeface="Arial Black"/>
              </a:rPr>
              <a:t>Sine Wav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010199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08280" y="3014640"/>
            <a:ext cx="475452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010199">
                      <a:alpha val="50000"/>
                    </a:srgbClr>
                  </a:outerShdw>
                </a:effectLst>
                <a:latin typeface="Arial Black"/>
              </a:rPr>
              <a:t>Part II: Data Analy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010199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41008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tting 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48000" y="1268280"/>
            <a:ext cx="5267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any equations or lists from your calculator to star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the Y=  l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STAT li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rn Stat Plots OF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0"/>
            <a:ext cx="3290040" cy="6857280"/>
            <a:chOff x="0" y="0"/>
            <a:chExt cx="3290040" cy="6857280"/>
          </a:xfrm>
        </p:grpSpPr>
        <p:sp>
          <p:nvSpPr>
            <p:cNvPr id="91" name=""/>
            <p:cNvSpPr/>
            <p:nvPr/>
          </p:nvSpPr>
          <p:spPr>
            <a:xfrm>
              <a:off x="369720" y="249480"/>
              <a:ext cx="2650680" cy="5925600"/>
            </a:xfrm>
            <a:custGeom>
              <a:avLst/>
              <a:gdLst>
                <a:gd name="textAreaLeft" fmla="*/ 129240 w 2650680"/>
                <a:gd name="textAreaRight" fmla="*/ 2521440 w 2650680"/>
                <a:gd name="textAreaTop" fmla="*/ 129240 h 5925600"/>
                <a:gd name="textAreaBottom" fmla="*/ 5796360 h 5925600"/>
              </a:gdLst>
              <a:ahLst/>
              <a:rect l="textAreaLeft" t="textAreaTop" r="textAreaRight" b="textAreaBottom"/>
              <a:pathLst>
                <a:path w="21600" h="48283">
                  <a:moveTo>
                    <a:pt x="3600" y="0"/>
                  </a:moveTo>
                  <a:arcTo wR="3600" hR="3600" stAng="16200000" swAng="-5400000"/>
                  <a:lnTo>
                    <a:pt x="0" y="44683"/>
                  </a:lnTo>
                  <a:arcTo wR="3600" hR="3600" stAng="10800000" swAng="-5400000"/>
                  <a:lnTo>
                    <a:pt x="18000" y="482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9004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/>
          <p:cNvSpPr/>
          <p:nvPr/>
        </p:nvSpPr>
        <p:spPr>
          <a:xfrm flipH="1">
            <a:off x="971640" y="2421000"/>
            <a:ext cx="2952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834920" y="2924280"/>
            <a:ext cx="216036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971640" y="2349000"/>
            <a:ext cx="3024000" cy="10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3141720"/>
            <a:ext cx="7272360" cy="2076840"/>
            <a:chOff x="1332000" y="3141720"/>
            <a:chExt cx="7272360" cy="2076840"/>
          </a:xfrm>
        </p:grpSpPr>
        <p:sp>
          <p:nvSpPr>
            <p:cNvPr id="97" name=""/>
            <p:cNvSpPr/>
            <p:nvPr/>
          </p:nvSpPr>
          <p:spPr>
            <a:xfrm>
              <a:off x="3780000" y="4149720"/>
              <a:ext cx="4824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ahoma"/>
                </a:rPr>
                <a:t>In the Mode Menu, turn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ahoma"/>
                </a:rPr>
                <a:t>RADIANS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Tahoma"/>
                </a:rPr>
                <a:t>on!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1332000" y="3141720"/>
              <a:ext cx="2519280" cy="1511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49360" y="334800"/>
            <a:ext cx="2379600" cy="1722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41008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ter the Da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81120" y="1182600"/>
            <a:ext cx="5267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 the </a:t>
            </a:r>
            <a:r>
              <a:rPr b="0" lang="en-US" sz="2800" spc="-1" strike="noStrike">
                <a:solidFill>
                  <a:srgbClr val="ffffff"/>
                </a:solidFill>
                <a:latin typeface="TI83Key"/>
                <a:ea typeface="TI83Key"/>
              </a:rPr>
              <a:t>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ut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Edit… to enter th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er your data into L1 and L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3290040" cy="6857280"/>
            <a:chOff x="0" y="0"/>
            <a:chExt cx="3290040" cy="6857280"/>
          </a:xfrm>
        </p:grpSpPr>
        <p:sp>
          <p:nvSpPr>
            <p:cNvPr id="103" name=""/>
            <p:cNvSpPr/>
            <p:nvPr/>
          </p:nvSpPr>
          <p:spPr>
            <a:xfrm>
              <a:off x="369720" y="249480"/>
              <a:ext cx="2650680" cy="5925600"/>
            </a:xfrm>
            <a:custGeom>
              <a:avLst/>
              <a:gdLst>
                <a:gd name="textAreaLeft" fmla="*/ 129240 w 2650680"/>
                <a:gd name="textAreaRight" fmla="*/ 2521440 w 2650680"/>
                <a:gd name="textAreaTop" fmla="*/ 129240 h 5925600"/>
                <a:gd name="textAreaBottom" fmla="*/ 5796360 h 5925600"/>
              </a:gdLst>
              <a:ahLst/>
              <a:rect l="textAreaLeft" t="textAreaTop" r="textAreaRight" b="textAreaBottom"/>
              <a:pathLst>
                <a:path w="21600" h="48283">
                  <a:moveTo>
                    <a:pt x="3600" y="0"/>
                  </a:moveTo>
                  <a:arcTo wR="3600" hR="3600" stAng="16200000" swAng="-5400000"/>
                  <a:lnTo>
                    <a:pt x="0" y="44683"/>
                  </a:lnTo>
                  <a:arcTo wR="3600" hR="3600" stAng="10800000" swAng="-5400000"/>
                  <a:lnTo>
                    <a:pt x="18000" y="482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90040" cy="685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1471680" y="1469880"/>
            <a:ext cx="2076480" cy="2132280"/>
            <a:chOff x="1471680" y="1469880"/>
            <a:chExt cx="2076480" cy="2132280"/>
          </a:xfrm>
        </p:grpSpPr>
        <p:sp>
          <p:nvSpPr>
            <p:cNvPr id="106" name=""/>
            <p:cNvSpPr/>
            <p:nvPr/>
          </p:nvSpPr>
          <p:spPr>
            <a:xfrm>
              <a:off x="1471680" y="3170160"/>
              <a:ext cx="504720" cy="43200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889280" y="1469880"/>
              <a:ext cx="1658880" cy="17463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58720" y="366840"/>
            <a:ext cx="2370240" cy="1699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 flipV="1">
            <a:off x="1528920" y="642600"/>
            <a:ext cx="2071440" cy="13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47560" y="365040"/>
            <a:ext cx="2378160" cy="1738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41008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tting up your Plo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3290040" cy="6857280"/>
            <a:chOff x="0" y="0"/>
            <a:chExt cx="3290040" cy="6857280"/>
          </a:xfrm>
        </p:grpSpPr>
        <p:sp>
          <p:nvSpPr>
            <p:cNvPr id="113" name=""/>
            <p:cNvSpPr/>
            <p:nvPr/>
          </p:nvSpPr>
          <p:spPr>
            <a:xfrm>
              <a:off x="369720" y="249480"/>
              <a:ext cx="2650680" cy="5925600"/>
            </a:xfrm>
            <a:custGeom>
              <a:avLst/>
              <a:gdLst>
                <a:gd name="textAreaLeft" fmla="*/ 129240 w 2650680"/>
                <a:gd name="textAreaRight" fmla="*/ 2521440 w 2650680"/>
                <a:gd name="textAreaTop" fmla="*/ 129240 h 5925600"/>
                <a:gd name="textAreaBottom" fmla="*/ 5796360 h 5925600"/>
              </a:gdLst>
              <a:ahLst/>
              <a:rect l="textAreaLeft" t="textAreaTop" r="textAreaRight" b="textAreaBottom"/>
              <a:pathLst>
                <a:path w="21600" h="48283">
                  <a:moveTo>
                    <a:pt x="3600" y="0"/>
                  </a:moveTo>
                  <a:arcTo wR="3600" hR="3600" stAng="16200000" swAng="-5400000"/>
                  <a:lnTo>
                    <a:pt x="0" y="44683"/>
                  </a:lnTo>
                  <a:arcTo wR="3600" hR="3600" stAng="10800000" swAng="-5400000"/>
                  <a:lnTo>
                    <a:pt x="18000" y="482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9004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35280" y="1267920"/>
            <a:ext cx="5051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Get into the Stat Plot Menu, press </a:t>
            </a:r>
            <a:r>
              <a:rPr b="0" lang="en-US" sz="2400" spc="-1" strike="noStrike">
                <a:solidFill>
                  <a:srgbClr val="ffffff"/>
                </a:solidFill>
                <a:latin typeface="TI83Key"/>
                <a:ea typeface="TI83Key"/>
              </a:rPr>
              <a:t>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83Key"/>
                <a:ea typeface="TI83Key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ct Plot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 enter o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‘On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41360" y="1552680"/>
            <a:ext cx="3379680" cy="1647720"/>
            <a:chOff x="441360" y="1552680"/>
            <a:chExt cx="3379680" cy="1647720"/>
          </a:xfrm>
        </p:grpSpPr>
        <p:sp>
          <p:nvSpPr>
            <p:cNvPr id="117" name=""/>
            <p:cNvSpPr/>
            <p:nvPr/>
          </p:nvSpPr>
          <p:spPr>
            <a:xfrm>
              <a:off x="468360" y="2184480"/>
              <a:ext cx="590400" cy="463320"/>
            </a:xfrm>
            <a:prstGeom prst="ellipse">
              <a:avLst/>
            </a:prstGeom>
            <a:noFill/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014480" y="1552680"/>
              <a:ext cx="2806560" cy="901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960120" y="2332080"/>
              <a:ext cx="455400" cy="6238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1360" y="2843280"/>
              <a:ext cx="590400" cy="357120"/>
            </a:xfrm>
            <a:prstGeom prst="ellipse">
              <a:avLst/>
            </a:prstGeom>
            <a:noFill/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33520" y="395280"/>
            <a:ext cx="2408040" cy="1606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33520" y="395280"/>
            <a:ext cx="2392200" cy="1685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410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aphing Your Sta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3290040" cy="6857280"/>
            <a:chOff x="0" y="0"/>
            <a:chExt cx="3290040" cy="6857280"/>
          </a:xfrm>
        </p:grpSpPr>
        <p:sp>
          <p:nvSpPr>
            <p:cNvPr id="125" name=""/>
            <p:cNvSpPr/>
            <p:nvPr/>
          </p:nvSpPr>
          <p:spPr>
            <a:xfrm>
              <a:off x="369720" y="249480"/>
              <a:ext cx="2650680" cy="5925600"/>
            </a:xfrm>
            <a:custGeom>
              <a:avLst/>
              <a:gdLst>
                <a:gd name="textAreaLeft" fmla="*/ 129240 w 2650680"/>
                <a:gd name="textAreaRight" fmla="*/ 2521440 w 2650680"/>
                <a:gd name="textAreaTop" fmla="*/ 129240 h 5925600"/>
                <a:gd name="textAreaBottom" fmla="*/ 5796360 h 5925600"/>
              </a:gdLst>
              <a:ahLst/>
              <a:rect l="textAreaLeft" t="textAreaTop" r="textAreaRight" b="textAreaBottom"/>
              <a:pathLst>
                <a:path w="21600" h="48283">
                  <a:moveTo>
                    <a:pt x="3600" y="0"/>
                  </a:moveTo>
                  <a:arcTo wR="3600" hR="3600" stAng="16200000" swAng="-5400000"/>
                  <a:lnTo>
                    <a:pt x="0" y="44683"/>
                  </a:lnTo>
                  <a:arcTo wR="3600" hR="3600" stAng="10800000" swAng="-5400000"/>
                  <a:lnTo>
                    <a:pt x="18000" y="482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9004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81120" y="1305000"/>
            <a:ext cx="5267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 Z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ZoomStat (9) – this will change your window settings to fit all of the data in AND graph i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3520" y="395280"/>
            <a:ext cx="23922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501920" y="1560600"/>
            <a:ext cx="2091960" cy="1111320"/>
            <a:chOff x="1501920" y="1560600"/>
            <a:chExt cx="2091960" cy="1111320"/>
          </a:xfrm>
        </p:grpSpPr>
        <p:sp>
          <p:nvSpPr>
            <p:cNvPr id="130" name=""/>
            <p:cNvSpPr/>
            <p:nvPr/>
          </p:nvSpPr>
          <p:spPr>
            <a:xfrm>
              <a:off x="1501920" y="2239920"/>
              <a:ext cx="504720" cy="43200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918800" y="1560600"/>
              <a:ext cx="1675080" cy="725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19120" y="396720"/>
            <a:ext cx="2392200" cy="165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1480" y="380880"/>
            <a:ext cx="2438640" cy="1702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3290040" cy="6857280"/>
            <a:chOff x="0" y="0"/>
            <a:chExt cx="3290040" cy="6857280"/>
          </a:xfrm>
        </p:grpSpPr>
        <p:sp>
          <p:nvSpPr>
            <p:cNvPr id="135" name=""/>
            <p:cNvSpPr/>
            <p:nvPr/>
          </p:nvSpPr>
          <p:spPr>
            <a:xfrm>
              <a:off x="369720" y="249480"/>
              <a:ext cx="2650680" cy="5925600"/>
            </a:xfrm>
            <a:custGeom>
              <a:avLst/>
              <a:gdLst>
                <a:gd name="textAreaLeft" fmla="*/ 129240 w 2650680"/>
                <a:gd name="textAreaRight" fmla="*/ 2521440 w 2650680"/>
                <a:gd name="textAreaTop" fmla="*/ 129240 h 5925600"/>
                <a:gd name="textAreaBottom" fmla="*/ 5796360 h 5925600"/>
              </a:gdLst>
              <a:ahLst/>
              <a:rect l="textAreaLeft" t="textAreaTop" r="textAreaRight" b="textAreaBottom"/>
              <a:pathLst>
                <a:path w="21600" h="48283">
                  <a:moveTo>
                    <a:pt x="3600" y="0"/>
                  </a:moveTo>
                  <a:arcTo wR="3600" hR="3600" stAng="16200000" swAng="-5400000"/>
                  <a:lnTo>
                    <a:pt x="0" y="44683"/>
                  </a:lnTo>
                  <a:arcTo wR="3600" hR="3600" stAng="10800000" swAng="-5400000"/>
                  <a:lnTo>
                    <a:pt x="18000" y="482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9004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673600" cy="1006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tting an Eq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16320" y="1322280"/>
            <a:ext cx="58276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s the </a:t>
            </a:r>
            <a:r>
              <a:rPr b="0" lang="en-US" sz="2400" spc="-1" strike="noStrike">
                <a:solidFill>
                  <a:srgbClr val="ffffff"/>
                </a:solidFill>
                <a:latin typeface="TI83Key"/>
                <a:ea typeface="TI83Key"/>
              </a:rPr>
              <a:t>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utton and cursor over </a:t>
            </a:r>
            <a:r>
              <a:rPr b="0" lang="en-US" sz="2400" spc="-1" strike="noStrike">
                <a:solidFill>
                  <a:srgbClr val="ffffff"/>
                </a:solidFill>
                <a:latin typeface="TI83Key"/>
                <a:ea typeface="TI83Key"/>
              </a:rPr>
              <a:t>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the Calc men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rsor down to C:SinR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s En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ter the list names that contain your data, separated by a com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For L1 press </a:t>
            </a:r>
            <a:r>
              <a:rPr b="0" lang="en-US" sz="2400" spc="-1" strike="noStrike">
                <a:solidFill>
                  <a:srgbClr val="ffffff"/>
                </a:solidFill>
                <a:latin typeface="TI83Key"/>
                <a:ea typeface="TI83Key"/>
              </a:rPr>
              <a:t>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tell it where to store the equation, press </a:t>
            </a:r>
            <a:r>
              <a:rPr b="0" lang="en-US" sz="2400" spc="-1" strike="noStrike">
                <a:solidFill>
                  <a:srgbClr val="ffffff"/>
                </a:solidFill>
                <a:latin typeface="TI83Key"/>
                <a:ea typeface="TI83Key"/>
              </a:rPr>
              <a:t>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or Y-Vars and then </a:t>
            </a:r>
            <a:r>
              <a:rPr b="0" lang="en-US" sz="2400" spc="-1" strike="noStrike">
                <a:solidFill>
                  <a:srgbClr val="ffffff"/>
                </a:solidFill>
                <a:latin typeface="TI83Key"/>
                <a:ea typeface="TI83Key"/>
              </a:rPr>
              <a:t>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or functions, and then choose Y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s En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90760" y="1511280"/>
            <a:ext cx="2039400" cy="2054160"/>
            <a:chOff x="1490760" y="1511280"/>
            <a:chExt cx="2039400" cy="2054160"/>
          </a:xfrm>
        </p:grpSpPr>
        <p:sp>
          <p:nvSpPr>
            <p:cNvPr id="140" name=""/>
            <p:cNvSpPr/>
            <p:nvPr/>
          </p:nvSpPr>
          <p:spPr>
            <a:xfrm>
              <a:off x="1490760" y="3174840"/>
              <a:ext cx="466560" cy="390600"/>
            </a:xfrm>
            <a:prstGeom prst="ellipse">
              <a:avLst/>
            </a:prstGeom>
            <a:noFill/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899720" y="1511280"/>
              <a:ext cx="1630440" cy="17575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3520" y="366840"/>
            <a:ext cx="2376360" cy="1630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33520" y="351000"/>
            <a:ext cx="2377800" cy="1722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33520" y="334800"/>
            <a:ext cx="2379600" cy="1738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360" y="689040"/>
            <a:ext cx="5338800" cy="733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This is called a sinusoidal regres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040" y="2805120"/>
            <a:ext cx="531720" cy="411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9560" y="5291280"/>
            <a:ext cx="531720" cy="411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52560" y="4226040"/>
            <a:ext cx="531720" cy="411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59080" y="5294160"/>
            <a:ext cx="531720" cy="411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519120" y="333360"/>
            <a:ext cx="2403360" cy="1722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515880" y="334800"/>
            <a:ext cx="2392560" cy="1748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92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192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192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192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92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192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1" dur="192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" dur="192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92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192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192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192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92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192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192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192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0"/>
            <a:ext cx="3290040" cy="6857280"/>
            <a:chOff x="0" y="0"/>
            <a:chExt cx="3290040" cy="6857280"/>
          </a:xfrm>
        </p:grpSpPr>
        <p:sp>
          <p:nvSpPr>
            <p:cNvPr id="153" name=""/>
            <p:cNvSpPr/>
            <p:nvPr/>
          </p:nvSpPr>
          <p:spPr>
            <a:xfrm>
              <a:off x="369720" y="249480"/>
              <a:ext cx="2650680" cy="5925600"/>
            </a:xfrm>
            <a:custGeom>
              <a:avLst/>
              <a:gdLst>
                <a:gd name="textAreaLeft" fmla="*/ 129240 w 2650680"/>
                <a:gd name="textAreaRight" fmla="*/ 2521440 w 2650680"/>
                <a:gd name="textAreaTop" fmla="*/ 129240 h 5925600"/>
                <a:gd name="textAreaBottom" fmla="*/ 5796360 h 5925600"/>
              </a:gdLst>
              <a:ahLst/>
              <a:rect l="textAreaLeft" t="textAreaTop" r="textAreaRight" b="textAreaBottom"/>
              <a:pathLst>
                <a:path w="21600" h="48283">
                  <a:moveTo>
                    <a:pt x="3600" y="0"/>
                  </a:moveTo>
                  <a:arcTo wR="3600" hR="3600" stAng="16200000" swAng="-5400000"/>
                  <a:lnTo>
                    <a:pt x="0" y="44683"/>
                  </a:lnTo>
                  <a:arcTo wR="3600" hR="3600" stAng="10800000" swAng="-5400000"/>
                  <a:lnTo>
                    <a:pt x="18000" y="482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9004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338800" cy="1768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ess Graph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34920" y="1700280"/>
            <a:ext cx="504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760920" y="1322280"/>
            <a:ext cx="50403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that you’ve got a curve of best fit, you no longer need the data.  Turn the stat plot OFF (</a:t>
            </a:r>
            <a:r>
              <a:rPr b="0" lang="en-US" sz="2800" spc="-1" strike="noStrike">
                <a:solidFill>
                  <a:srgbClr val="ffffff"/>
                </a:solidFill>
                <a:latin typeface="TI83Key"/>
                <a:ea typeface="TI83Key"/>
              </a:rPr>
              <a:t>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get into the stat plot menu) and then press </a:t>
            </a:r>
            <a:r>
              <a:rPr b="0" lang="en-US" sz="2800" spc="-1" strike="noStrike">
                <a:solidFill>
                  <a:srgbClr val="ffffff"/>
                </a:solidFill>
                <a:latin typeface="TI83Key"/>
                <a:ea typeface="TI83Key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19120" y="304920"/>
            <a:ext cx="2424240" cy="1752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519120" y="289080"/>
            <a:ext cx="2446200" cy="1798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646440" y="4189320"/>
            <a:ext cx="516276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you are ready to answer questions about your graph!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30480" y="-395280"/>
            <a:ext cx="540864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at’s it for now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162240" y="766800"/>
            <a:ext cx="2954160" cy="6217920"/>
            <a:chOff x="3162240" y="766800"/>
            <a:chExt cx="2954160" cy="6217920"/>
          </a:xfrm>
        </p:grpSpPr>
        <p:grpSp>
          <p:nvGrpSpPr>
            <p:cNvPr id="163" name=""/>
            <p:cNvGrpSpPr/>
            <p:nvPr/>
          </p:nvGrpSpPr>
          <p:grpSpPr>
            <a:xfrm>
              <a:off x="3162240" y="766800"/>
              <a:ext cx="2954160" cy="6217920"/>
              <a:chOff x="3162240" y="766800"/>
              <a:chExt cx="2954160" cy="6217920"/>
            </a:xfrm>
          </p:grpSpPr>
          <p:sp>
            <p:nvSpPr>
              <p:cNvPr id="164" name=""/>
              <p:cNvSpPr/>
              <p:nvPr/>
            </p:nvSpPr>
            <p:spPr>
              <a:xfrm>
                <a:off x="3494160" y="993240"/>
                <a:ext cx="2379960" cy="5372640"/>
              </a:xfrm>
              <a:custGeom>
                <a:avLst/>
                <a:gdLst>
                  <a:gd name="textAreaLeft" fmla="*/ 115920 w 2379960"/>
                  <a:gd name="textAreaRight" fmla="*/ 2264040 w 2379960"/>
                  <a:gd name="textAreaTop" fmla="*/ 115920 h 5372640"/>
                  <a:gd name="textAreaBottom" fmla="*/ 5256720 h 5372640"/>
                </a:gdLst>
                <a:ahLst/>
                <a:rect l="textAreaLeft" t="textAreaTop" r="textAreaRight" b="textAreaBottom"/>
                <a:pathLst>
                  <a:path w="21600" h="48757">
                    <a:moveTo>
                      <a:pt x="3600" y="0"/>
                    </a:moveTo>
                    <a:arcTo wR="3600" hR="3600" stAng="16200000" swAng="-5400000"/>
                    <a:lnTo>
                      <a:pt x="0" y="45157"/>
                    </a:lnTo>
                    <a:arcTo wR="3600" hR="3600" stAng="10800000" swAng="-5400000"/>
                    <a:lnTo>
                      <a:pt x="18000" y="487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2240" y="766800"/>
                <a:ext cx="2954160" cy="6217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3635280" y="1099080"/>
              <a:ext cx="2148840" cy="15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1:39:32Z</dcterms:created>
  <dc:creator>Computer Science</dc:creator>
  <dc:description/>
  <dc:language>en-US</dc:language>
  <cp:lastModifiedBy>Computer Science</cp:lastModifiedBy>
  <dcterms:modified xsi:type="dcterms:W3CDTF">2006-07-17T17:55:05Z</dcterms:modified>
  <cp:revision>15</cp:revision>
  <dc:subject/>
  <dc:title>Slide 1</dc:title>
</cp:coreProperties>
</file>