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35775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364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73600" y="-360"/>
            <a:ext cx="29620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004760" y="723600"/>
            <a:ext cx="482760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4000" y="4587840"/>
            <a:ext cx="546876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9175320"/>
            <a:ext cx="29624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73600" y="9175320"/>
            <a:ext cx="29620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DFF8-6EBF-4879-8989-25FF36332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04760" y="723960"/>
            <a:ext cx="4827600" cy="3622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4000" y="4587840"/>
            <a:ext cx="546876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 from Elizabeth Pattison, District School Board of Niaga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2DC-4887-4FDB-96A5-08201145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265-2F75-4932-827A-6BE25CE0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3DF-62B6-4555-BDA8-1F6E12AB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B6C-C56B-4409-BA3D-0EE607BD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2914-4158-4C17-96FD-3CFB4129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3B44-0117-4C6E-B9A9-60D08631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85F9-836A-4938-84CF-24FCC3F1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9E68-6140-4688-B97B-B84CB94B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9E31-181A-4BFB-9F63-2F147318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50ED-BD22-4E6A-8F82-0537F65F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382F-771B-4E61-B9E3-FB4C8696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151-7972-4D09-BD87-DE76B632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A40C-0D50-469C-9D0E-7B84D4DF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9E27-A87A-4C3E-B3B9-A4F6AE35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87C8-163F-4F97-85C6-62BA4711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2DF2-526E-4A86-96BF-BDB54A51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1071-4D0A-49E6-B01C-7B81082B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992-EFF0-4713-9AAF-234CAD88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8F2-29BB-4B03-AEF7-2D6DE975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E01-664D-414C-B4CC-D6E7E055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998-FBC3-4F67-86D6-3BF70378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A56-67DB-465E-A197-AF5F858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413-390E-4127-A3E1-7C476FFC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4B4-B180-4428-B245-AEDD15FA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5000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CCDD-44EE-45DA-A900-A1D144D0D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5000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F9EF-0050-4475-9B6C-55932C3D4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 Aerob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43434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2767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165480" cy="4267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457200"/>
            <a:ext cx="4876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-2x</a:t>
            </a:r>
            <a:r>
              <a:rPr b="0" lang="en-US" sz="20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5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27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633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1" lang="en-US" sz="20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90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019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15000"/>
            </a:br>
            <a:r>
              <a:rPr b="0" lang="en-US" sz="15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762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17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7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17500"/>
            </a:br>
            <a:r>
              <a:rPr b="0" lang="en-US" sz="17500" spc="-1" strike="noStrike" baseline="30000">
                <a:solidFill>
                  <a:srgbClr val="000000"/>
                </a:solidFill>
                <a:latin typeface="Times New Roman"/>
              </a:rPr>
              <a:t>   3</a:t>
            </a:r>
            <a:endParaRPr b="0" lang="en-US" sz="1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95480" y="3757680"/>
            <a:ext cx="32004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(x + 2)</a:t>
            </a:r>
            <a:r>
              <a:rPr b="0" lang="en-US" sz="1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2004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(x-2)</a:t>
            </a:r>
            <a:r>
              <a:rPr b="0" lang="en-US" sz="20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50292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500" spc="-1" strike="noStrike">
                <a:solidFill>
                  <a:srgbClr val="000000"/>
                </a:solidFill>
                <a:latin typeface="Times New Roman"/>
              </a:rPr>
              <a:t>-(x-3)</a:t>
            </a:r>
            <a:r>
              <a:rPr b="0" lang="en-US" sz="22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1957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(x - 1)</a:t>
            </a:r>
            <a:r>
              <a:rPr b="0" lang="en-US" sz="1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+ 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14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to play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function will appear on the screen, and using your arms (and taking any necessary steps), you must show what the graph would look like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. 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ould be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05520" y="3174840"/>
            <a:ext cx="33210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Times New Roman"/>
              </a:rPr>
              <a:t>2(x+2)</a:t>
            </a:r>
            <a:r>
              <a:rPr b="0" lang="en-US" sz="1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38289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(x + 1)</a:t>
            </a:r>
            <a:r>
              <a:rPr b="0" lang="en-US" sz="11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 + 2</a:t>
            </a:r>
            <a:br>
              <a:rPr sz="11000"/>
            </a:b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re you ready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o beco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5181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“Dancing Queen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887800" cy="2943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86600" y="1143000"/>
            <a:ext cx="9270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4518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lang="en-US" sz="30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43200" y="4724280"/>
            <a:ext cx="38098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8120" y="3809880"/>
            <a:ext cx="3149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(x-1)</a:t>
            </a:r>
            <a:r>
              <a:rPr b="0" lang="en-US" sz="20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3346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90920" y="3809880"/>
            <a:ext cx="37335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(x+1)</a:t>
            </a:r>
            <a:r>
              <a:rPr b="0" lang="en-US" sz="20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81480" y="2971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8T20:10:08Z</dcterms:created>
  <dc:creator>Compaq</dc:creator>
  <dc:description/>
  <dc:language>en-US</dc:language>
  <cp:lastModifiedBy>steadd</cp:lastModifiedBy>
  <cp:lastPrinted>2000-08-19T17:30:50Z</cp:lastPrinted>
  <dcterms:modified xsi:type="dcterms:W3CDTF">2006-07-20T13:35:39Z</dcterms:modified>
  <cp:revision>16</cp:revision>
  <dc:subject/>
  <dc:title>TI  ACTIVE!!</dc:title>
</cp:coreProperties>
</file>